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ABBD-9885-4D1E-A1C7-3A46C2915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D275-8D6E-490E-B6DC-7A30EF97AF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2F3-71EC-432D-A875-CF4905AD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FA2-AD93-4EC6-83E4-B6BB908C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40C-BE68-44F5-85C1-5ED2529C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0B1-F824-469F-8ED7-7E4B3542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412-A0B5-4FB2-83E6-FC21D0CB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5280-A007-457A-B577-E921A34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48F-BA1B-40D1-84F4-087BA19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398-84AA-4DD0-90A6-21FA085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A13F-6E87-4E9C-B3C2-834C9C2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E7C-1257-4CEB-AE56-AF9467D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D74D-B2D3-404C-AAF4-10185FA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CB6-B3D9-469F-924B-181C6DE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A1AB-B316-4737-8461-46F8404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DB7-D203-4739-9B27-D1C12C5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807-5BE5-4B00-B469-8329CE5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05E9-5AC5-44C2-B5C9-0DE2F703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9C8D-388C-402D-92D6-DAA0C631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A07-8CFD-4039-B5BB-1174F295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813-DF9C-4605-9ABA-8F5A9F8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CB8-23E4-44EF-8B29-A0EEA26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6FC-303A-47A1-959F-721BA80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E70-0B53-4D0E-98B1-4E689C3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7D6-71EE-471A-989E-6E7CCD8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B66-03BD-410A-B586-63FA03C2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D584-5559-4E7E-A6F3-BCABF48F938E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3FD-0CBA-4676-B2B0-27BD3F9520F2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9BA-837D-4377-A5B0-10C1CA1FD815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2"/>
          <p:cNvSpPr/>
          <p:nvPr/>
        </p:nvSpPr>
        <p:spPr>
          <a:xfrm>
            <a:off x="4572000" y="2565360"/>
            <a:ext cx="3887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4" descr=""/>
            <p:cNvPicPr/>
            <p:nvPr/>
          </p:nvPicPr>
          <p:blipFill>
            <a:blip r:embed="rId1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22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69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395280" y="54936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pł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ydatki podmiotów należących do sektora finansów publicznych związane z zatrudnieniem przez nich pracownik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5280" y="155736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towary i usłu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zakupy towarów i usług potrzebnych do realizacji zadań państw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5280" y="227664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Obsługa zadłuż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płatności odsetek od długu publicznego oraz spłata zadłuż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5280" y="2997360"/>
          <a:ext cx="7561440" cy="1133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1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Transfery do gospodarstw domowy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przekazywane osobom fizycznym w ramach systemu zabezpieczenia społecznego (renty, emerytury, inne świadczenia społeczn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95280" y="414972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Dota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 subwen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do innych podmiotów (głównie przedsiębiorstw) związane z prowadzoną polityką gospodarcz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5280" y="189000"/>
          <a:ext cx="7561440" cy="41760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5157720"/>
          <a:ext cx="7561440" cy="90036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9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mająt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głównie inwestycje dokonywane przez państw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4" descr=""/>
          <p:cNvPicPr/>
          <p:nvPr/>
        </p:nvPicPr>
        <p:blipFill>
          <a:blip r:embed="rId1"/>
          <a:stretch/>
        </p:blipFill>
        <p:spPr>
          <a:xfrm>
            <a:off x="-189000" y="1590840"/>
            <a:ext cx="91569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5" descr=""/>
          <p:cNvPicPr/>
          <p:nvPr/>
        </p:nvPicPr>
        <p:blipFill>
          <a:blip r:embed="rId2"/>
          <a:stretch/>
        </p:blipFill>
        <p:spPr>
          <a:xfrm>
            <a:off x="-189000" y="4041720"/>
            <a:ext cx="91569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rostokąt 10"/>
          <p:cNvSpPr/>
          <p:nvPr/>
        </p:nvSpPr>
        <p:spPr>
          <a:xfrm>
            <a:off x="550440" y="9810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rostokąt 5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upa 10"/>
          <p:cNvGrpSpPr/>
          <p:nvPr/>
        </p:nvGrpSpPr>
        <p:grpSpPr>
          <a:xfrm>
            <a:off x="179280" y="1197000"/>
            <a:ext cx="3399120" cy="4127400"/>
            <a:chOff x="179280" y="1197000"/>
            <a:chExt cx="3399120" cy="4127400"/>
          </a:xfrm>
        </p:grpSpPr>
        <p:pic>
          <p:nvPicPr>
            <p:cNvPr id="192" name="Obraz 8" descr="5656308384_77514f9657_m.jpg"/>
            <p:cNvPicPr/>
            <p:nvPr/>
          </p:nvPicPr>
          <p:blipFill>
            <a:blip r:embed="rId1"/>
            <a:srcRect l="8291" t="0" r="0" b="0"/>
            <a:stretch/>
          </p:blipFill>
          <p:spPr>
            <a:xfrm>
              <a:off x="179280" y="2277000"/>
              <a:ext cx="2795760" cy="30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rostokąt 4"/>
            <p:cNvSpPr/>
            <p:nvPr/>
          </p:nvSpPr>
          <p:spPr>
            <a:xfrm>
              <a:off x="406080" y="1197000"/>
              <a:ext cx="31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żet państwa składa się z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rostokąt zaokrąglony 6"/>
          <p:cNvSpPr/>
          <p:nvPr/>
        </p:nvSpPr>
        <p:spPr>
          <a:xfrm>
            <a:off x="2916360" y="1700280"/>
            <a:ext cx="5327640" cy="41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ów budżetu państwa, czyli planowanych wydatków na płace pracowników administracji państwowej, zakup towarów i usług, obsługę zadłużenia Skarbu Państwa (długu publicznego powstałego w wyniku emisji skarbowych papierów wartościowych i zaciągnięcia przez instytucje rządowe kredytów i zobowiązań), subwencje i dotacje do innych jednost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zczebli sektora publicznego oraz do przedsiębiorstw, transfery do gospodarstw domowych, wydatki majątkowe (głównie inwestycje publicz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Obraz 11" descr="4431770374_5752e04e83_m.jpg"/>
          <p:cNvPicPr/>
          <p:nvPr/>
        </p:nvPicPr>
        <p:blipFill>
          <a:blip r:embed="rId1"/>
          <a:stretch/>
        </p:blipFill>
        <p:spPr>
          <a:xfrm>
            <a:off x="5435640" y="3500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050920" y="1773000"/>
            <a:ext cx="6266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widywanego wyniku budżetu państwa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przypadku wyższych wydatków niż dochodów – deficytu budżetowego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dwrotnej sytuacji – nadwyżki budżetowej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5"/>
          <p:cNvSpPr/>
          <p:nvPr/>
        </p:nvSpPr>
        <p:spPr>
          <a:xfrm>
            <a:off x="179280" y="260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3629525392_038867dfa8_m.jpg"/>
          <p:cNvPicPr/>
          <p:nvPr/>
        </p:nvPicPr>
        <p:blipFill>
          <a:blip r:embed="rId2"/>
          <a:stretch/>
        </p:blipFill>
        <p:spPr>
          <a:xfrm>
            <a:off x="324000" y="1413000"/>
            <a:ext cx="1655640" cy="194760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8"/>
          <p:cNvSpPr/>
          <p:nvPr/>
        </p:nvSpPr>
        <p:spPr>
          <a:xfrm>
            <a:off x="406080" y="9079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ymbol zastępczy zawartości 2"/>
          <p:cNvSpPr/>
          <p:nvPr/>
        </p:nvSpPr>
        <p:spPr>
          <a:xfrm>
            <a:off x="0" y="386064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osobu sfinansowania deficytu budżetu (upoważnienie rządu do emisji skarbowych papierów wartościowych, zaciągania kredytów, realizacji przewidywanych dochodów z tytułu prywatyzacji) państwa lub rozdysponowania nadwyżki budżet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rostokąt 5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funkcje budżetu pań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rostokąt zaokrąglony 7"/>
          <p:cNvSpPr/>
          <p:nvPr/>
        </p:nvSpPr>
        <p:spPr>
          <a:xfrm>
            <a:off x="4140360" y="2565360"/>
            <a:ext cx="388764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dystrybucyjna (rozdzielc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zaokrąglony 8"/>
          <p:cNvSpPr/>
          <p:nvPr/>
        </p:nvSpPr>
        <p:spPr>
          <a:xfrm>
            <a:off x="4140360" y="3141720"/>
            <a:ext cx="388764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ok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rostokąt zaokrąglony 9"/>
          <p:cNvSpPr/>
          <p:nvPr/>
        </p:nvSpPr>
        <p:spPr>
          <a:xfrm>
            <a:off x="4140360" y="371628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ymul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zaokrąglony 10"/>
          <p:cNvSpPr/>
          <p:nvPr/>
        </p:nvSpPr>
        <p:spPr>
          <a:xfrm>
            <a:off x="4140360" y="429264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iz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rostokąt zaokrąglony 11"/>
          <p:cNvSpPr/>
          <p:nvPr/>
        </p:nvSpPr>
        <p:spPr>
          <a:xfrm>
            <a:off x="4140360" y="4869000"/>
            <a:ext cx="3887640" cy="46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isk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zaokrąglony 12"/>
          <p:cNvSpPr/>
          <p:nvPr/>
        </p:nvSpPr>
        <p:spPr>
          <a:xfrm>
            <a:off x="4140360" y="544500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16" descr="5519763965_83769030fc_m.jpg"/>
          <p:cNvPicPr/>
          <p:nvPr/>
        </p:nvPicPr>
        <p:blipFill>
          <a:blip r:embed="rId1"/>
          <a:stretch/>
        </p:blipFill>
        <p:spPr>
          <a:xfrm>
            <a:off x="611280" y="836640"/>
            <a:ext cx="3097080" cy="5505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5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etapy konstrukcj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Diagram 6" descr=""/>
          <p:cNvPicPr/>
          <p:nvPr/>
        </p:nvPicPr>
        <p:blipFill>
          <a:blip r:embed="rId1"/>
          <a:stretch/>
        </p:blipFill>
        <p:spPr>
          <a:xfrm>
            <a:off x="365040" y="1743120"/>
            <a:ext cx="7688520" cy="4121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syfikacja dochodów budżetowy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24" name="Symbol zastępczy zawartości 3" descr=""/>
          <p:cNvPicPr/>
          <p:nvPr/>
        </p:nvPicPr>
        <p:blipFill>
          <a:blip r:embed="rId1"/>
          <a:stretch/>
        </p:blipFill>
        <p:spPr>
          <a:xfrm>
            <a:off x="244440" y="1122480"/>
            <a:ext cx="8240760" cy="54975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79280" y="549360"/>
          <a:ext cx="8078760" cy="138276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ry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ział dochod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kład Doch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9280" y="1916280"/>
          <a:ext cx="8064720" cy="81252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406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yterium pra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ymus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i opłaty, kary pienięż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rowol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dki, darowizny na rzecz podmiotów publiczny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9280" y="2708280"/>
          <a:ext cx="8064720" cy="10112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9280" y="371628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ejsce powst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gran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owiz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9280" y="443700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16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czebel gromadzenia podatk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ństw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ek od towarów i usług, dochody z majątku państw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rząd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 samorządowego, podatki lokal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9280" y="5157720"/>
          <a:ext cx="8078760" cy="73188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60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łaty publicz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, obowiązkowe wpłaty do budże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rostokąt 5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dania polityk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 14" descr=""/>
          <p:cNvPicPr/>
          <p:nvPr/>
        </p:nvPicPr>
        <p:blipFill>
          <a:blip r:embed="rId1"/>
          <a:stretch/>
        </p:blipFill>
        <p:spPr>
          <a:xfrm>
            <a:off x="579600" y="1695600"/>
            <a:ext cx="74739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95280" y="1125360"/>
          <a:ext cx="7561440" cy="1646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Społeczna gospodarka rynk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łeczna gospodarka rynkow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ta na wolności działalności gospodarczej (konkurencji), własności prywatnej (prywatna przedsiębiorczość) oraz solidarności, dialogu i współpracy partnerów społecznych stanowi podstawę ustroju gospodarczego Rzeczypospolitej Polskiej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rt. 20 Konstytucji RP z 1997 roku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5280" y="2781360"/>
          <a:ext cx="7561440" cy="195084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95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rynk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t to określony system ekonomiczny, w którym zarówno sposób produkcji, jak i rozdzielania zasobów uwarunkowane są przez rynek. Z kolei wszystkie ceny rynkowe o charakterze pieniężnym kształtują się odpowiednio do poziomu popytu i podaży. W gospodarce rynkowej praktycznie wszystkie zasoby stanowią własność prywatną. Najważniejszą obowiązującą w związku z tym zasadą jest prawo własności. Dla tego typu gospodarki charakterystyczne jest państwo kapitalistycz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5280" y="4724280"/>
          <a:ext cx="7561440" cy="8226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centralnie sterow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gospodarka charakterystyczna dla państwa socjalistycznego, poziom cen w tej gospodarce narzucany jest odgórnie przez państwo. Dominująca jest rola państw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95280" y="692280"/>
          <a:ext cx="7561440" cy="41904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4"/>
          <p:cNvSpPr/>
          <p:nvPr/>
        </p:nvSpPr>
        <p:spPr>
          <a:xfrm>
            <a:off x="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8" descr=""/>
          <p:cNvPicPr/>
          <p:nvPr/>
        </p:nvPicPr>
        <p:blipFill>
          <a:blip r:embed="rId1"/>
          <a:stretch/>
        </p:blipFill>
        <p:spPr>
          <a:xfrm>
            <a:off x="-255600" y="137808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2" name="Diagram 9" descr=""/>
          <p:cNvPicPr/>
          <p:nvPr/>
        </p:nvPicPr>
        <p:blipFill>
          <a:blip r:embed="rId2"/>
          <a:stretch/>
        </p:blipFill>
        <p:spPr>
          <a:xfrm>
            <a:off x="-255600" y="296244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10" descr=""/>
          <p:cNvPicPr/>
          <p:nvPr/>
        </p:nvPicPr>
        <p:blipFill>
          <a:blip r:embed="rId3"/>
          <a:stretch/>
        </p:blipFill>
        <p:spPr>
          <a:xfrm>
            <a:off x="-328680" y="4687920"/>
            <a:ext cx="9155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upa 16"/>
          <p:cNvGrpSpPr/>
          <p:nvPr/>
        </p:nvGrpSpPr>
        <p:grpSpPr>
          <a:xfrm>
            <a:off x="250920" y="981000"/>
            <a:ext cx="7850160" cy="1368360"/>
            <a:chOff x="250920" y="981000"/>
            <a:chExt cx="7850160" cy="1368360"/>
          </a:xfrm>
        </p:grpSpPr>
        <p:pic>
          <p:nvPicPr>
            <p:cNvPr id="111" name="Obraz 13" descr="6033936938_024f7832cb_m.jpg"/>
            <p:cNvPicPr/>
            <p:nvPr/>
          </p:nvPicPr>
          <p:blipFill>
            <a:blip r:embed="rId2"/>
            <a:srcRect l="0" t="0" r="8130" b="0"/>
            <a:stretch/>
          </p:blipFill>
          <p:spPr>
            <a:xfrm>
              <a:off x="250920" y="981000"/>
              <a:ext cx="1152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0"/>
            <p:cNvSpPr/>
            <p:nvPr/>
          </p:nvSpPr>
          <p:spPr>
            <a:xfrm>
              <a:off x="1187280" y="1412640"/>
              <a:ext cx="691380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formalna (budżet państwa powinien być zawarty w jednym dokumencie – ustawie  budżetowej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sady tworzenia i kontrol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upa 17"/>
          <p:cNvGrpSpPr/>
          <p:nvPr/>
        </p:nvGrpSpPr>
        <p:grpSpPr>
          <a:xfrm>
            <a:off x="179280" y="2492280"/>
            <a:ext cx="8064720" cy="1152720"/>
            <a:chOff x="179280" y="2492280"/>
            <a:chExt cx="8064720" cy="1152720"/>
          </a:xfrm>
        </p:grpSpPr>
        <p:pic>
          <p:nvPicPr>
            <p:cNvPr id="115" name="Obraz 14" descr="4431759656_997fa774c7_m.jpg"/>
            <p:cNvPicPr/>
            <p:nvPr/>
          </p:nvPicPr>
          <p:blipFill>
            <a:blip r:embed="rId3"/>
            <a:stretch/>
          </p:blipFill>
          <p:spPr>
            <a:xfrm>
              <a:off x="7164000" y="2492280"/>
              <a:ext cx="10800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rostokąt zaokrąglony 9"/>
            <p:cNvSpPr/>
            <p:nvPr/>
          </p:nvSpPr>
          <p:spPr>
            <a:xfrm>
              <a:off x="179280" y="2492280"/>
              <a:ext cx="691236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materialna (zakaz tworzenia funduszy celowych w ramach budżetu państwa i poza nim, chociaż z dopuszczalnymi wyjątkami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20"/>
          <p:cNvGrpSpPr/>
          <p:nvPr/>
        </p:nvGrpSpPr>
        <p:grpSpPr>
          <a:xfrm>
            <a:off x="826920" y="5013360"/>
            <a:ext cx="7417080" cy="1641600"/>
            <a:chOff x="826920" y="5013360"/>
            <a:chExt cx="7417080" cy="1641600"/>
          </a:xfrm>
        </p:grpSpPr>
        <p:pic>
          <p:nvPicPr>
            <p:cNvPr id="118" name="Obraz 18" descr="kal.jpg"/>
            <p:cNvPicPr/>
            <p:nvPr/>
          </p:nvPicPr>
          <p:blipFill>
            <a:blip r:embed="rId4"/>
            <a:stretch/>
          </p:blipFill>
          <p:spPr>
            <a:xfrm>
              <a:off x="6948000" y="5013360"/>
              <a:ext cx="12960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rostokąt zaokrąglony 11"/>
            <p:cNvSpPr/>
            <p:nvPr/>
          </p:nvSpPr>
          <p:spPr>
            <a:xfrm>
              <a:off x="826920" y="5518080"/>
              <a:ext cx="6121800" cy="62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czność (budżet jest planem rocznym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19"/>
          <p:cNvGrpSpPr/>
          <p:nvPr/>
        </p:nvGrpSpPr>
        <p:grpSpPr>
          <a:xfrm>
            <a:off x="0" y="4005360"/>
            <a:ext cx="8101080" cy="968400"/>
            <a:chOff x="0" y="4005360"/>
            <a:chExt cx="8101080" cy="968400"/>
          </a:xfrm>
        </p:grpSpPr>
        <p:pic>
          <p:nvPicPr>
            <p:cNvPr id="121" name="Obraz 15" descr="5520336220_2cd64af883_m.jpg"/>
            <p:cNvPicPr/>
            <p:nvPr/>
          </p:nvPicPr>
          <p:blipFill>
            <a:blip r:embed="rId5"/>
            <a:stretch/>
          </p:blipFill>
          <p:spPr>
            <a:xfrm>
              <a:off x="0" y="4005360"/>
              <a:ext cx="1367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rostokąt zaokrąglony 12"/>
            <p:cNvSpPr/>
            <p:nvPr/>
          </p:nvSpPr>
          <p:spPr>
            <a:xfrm>
              <a:off x="1331640" y="4149720"/>
              <a:ext cx="6769440" cy="71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zechność (budżet powinien obejmować wszystkie dochody i wszystkie wydatki publiczne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476280"/>
            <a:ext cx="8470800" cy="4816440"/>
            <a:chOff x="0" y="476280"/>
            <a:chExt cx="8470800" cy="4816440"/>
          </a:xfrm>
        </p:grpSpPr>
        <p:sp>
          <p:nvSpPr>
            <p:cNvPr id="124" name="Prostokąt 6"/>
            <p:cNvSpPr/>
            <p:nvPr/>
          </p:nvSpPr>
          <p:spPr>
            <a:xfrm>
              <a:off x="0" y="476280"/>
              <a:ext cx="84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sady tworzenia i kontroli budżetu państw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Obraz 4" descr="plan.jpg"/>
            <p:cNvPicPr/>
            <p:nvPr/>
          </p:nvPicPr>
          <p:blipFill>
            <a:blip r:embed="rId1"/>
            <a:srcRect l="2339" t="2173" r="0" b="0"/>
            <a:stretch/>
          </p:blipFill>
          <p:spPr>
            <a:xfrm>
              <a:off x="0" y="2060640"/>
              <a:ext cx="2997360" cy="32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rostokąt zaokrąglony 5"/>
          <p:cNvSpPr/>
          <p:nvPr/>
        </p:nvSpPr>
        <p:spPr>
          <a:xfrm>
            <a:off x="2843280" y="1268280"/>
            <a:ext cx="53290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szczegółow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 opracowany w takim stopniu szczegółowości, aby parlament miał zapewniony wpływ na kształtowanie polityki społecznej i gospodarczej państ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rostokąt zaokrąglony 8"/>
          <p:cNvSpPr/>
          <p:nvPr/>
        </p:nvSpPr>
        <p:spPr>
          <a:xfrm>
            <a:off x="2916360" y="2997360"/>
            <a:ext cx="5327640" cy="130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równow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sensie matematycznym lub ze wskazaniem  źródła pokrycia deficytu państwa bądź wykorzystania nadwyżki budżetow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rostokąt zaokrąglony 9"/>
          <p:cNvSpPr/>
          <p:nvPr/>
        </p:nvSpPr>
        <p:spPr>
          <a:xfrm>
            <a:off x="2916360" y="4437000"/>
            <a:ext cx="53276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uprzedni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uchwalony przed  rozpoczęciem roku budżetow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zaokrąglony 10"/>
          <p:cNvSpPr/>
          <p:nvPr/>
        </p:nvSpPr>
        <p:spPr>
          <a:xfrm>
            <a:off x="2916360" y="5589720"/>
            <a:ext cx="5327640" cy="103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jaw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jawny jako dokument oraz czytelny pod względem merytoryczny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76720" y="1773000"/>
            <a:ext cx="49672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wszelkie dochody uzyskiwane przez podmioty należące do sektora finansów publicz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34" name="Grupa 7"/>
          <p:cNvGrpSpPr/>
          <p:nvPr/>
        </p:nvGrpSpPr>
        <p:grpSpPr>
          <a:xfrm>
            <a:off x="0" y="333360"/>
            <a:ext cx="8388360" cy="3995640"/>
            <a:chOff x="0" y="333360"/>
            <a:chExt cx="8388360" cy="3995640"/>
          </a:xfrm>
        </p:grpSpPr>
        <p:pic>
          <p:nvPicPr>
            <p:cNvPr id="135" name="Obraz 6" descr="761235248_447d64da59_m.jpg"/>
            <p:cNvPicPr/>
            <p:nvPr/>
          </p:nvPicPr>
          <p:blipFill>
            <a:blip r:embed="rId1"/>
            <a:stretch/>
          </p:blipFill>
          <p:spPr>
            <a:xfrm>
              <a:off x="0" y="615240"/>
              <a:ext cx="3715920" cy="371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Prostokąt 5"/>
            <p:cNvSpPr/>
            <p:nvPr/>
          </p:nvSpPr>
          <p:spPr>
            <a:xfrm>
              <a:off x="5760" y="333360"/>
              <a:ext cx="838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chody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rostokąt 9"/>
          <p:cNvSpPr/>
          <p:nvPr/>
        </p:nvSpPr>
        <p:spPr>
          <a:xfrm>
            <a:off x="468360" y="458136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całość dochodów uzyskiwanych przez państwo, umożliwiających sfinansowanie wydatków sektora finansów publiczny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az 11" descr="5727382774_f3ebb4bbe0_m.jpg"/>
          <p:cNvPicPr/>
          <p:nvPr/>
        </p:nvPicPr>
        <p:blipFill>
          <a:blip r:embed="rId2"/>
          <a:stretch/>
        </p:blipFill>
        <p:spPr>
          <a:xfrm>
            <a:off x="5292720" y="3402000"/>
            <a:ext cx="280836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2060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bezpośrednich: podatku dochodowego od osób fizycznych (PIT), podatku dochodowego od przedsiębiorstw (CIT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pośrednich: podatku od towarów i usług (VAT), podatku akcyzowego, innych podatków pośrednich (np. od gier losowych, nieruchomości itp.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opłat cel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rostokąt 5"/>
          <p:cNvSpPr/>
          <p:nvPr/>
        </p:nvSpPr>
        <p:spPr>
          <a:xfrm>
            <a:off x="39528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upa 10"/>
          <p:cNvGrpSpPr/>
          <p:nvPr/>
        </p:nvGrpSpPr>
        <p:grpSpPr>
          <a:xfrm>
            <a:off x="3708360" y="3222720"/>
            <a:ext cx="4388040" cy="3213000"/>
            <a:chOff x="3708360" y="3222720"/>
            <a:chExt cx="4388040" cy="3213000"/>
          </a:xfrm>
        </p:grpSpPr>
        <p:pic>
          <p:nvPicPr>
            <p:cNvPr id="146" name="Obraz 7" descr="TAX.jpg"/>
            <p:cNvPicPr/>
            <p:nvPr/>
          </p:nvPicPr>
          <p:blipFill>
            <a:blip r:embed="rId1"/>
            <a:srcRect l="0" t="42650" r="0" b="0"/>
            <a:stretch/>
          </p:blipFill>
          <p:spPr>
            <a:xfrm>
              <a:off x="3708360" y="4574520"/>
              <a:ext cx="409320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ole tekstowe 8" descr=""/>
            <p:cNvPicPr/>
            <p:nvPr/>
          </p:nvPicPr>
          <p:blipFill>
            <a:blip r:embed="rId2"/>
            <a:stretch/>
          </p:blipFill>
          <p:spPr>
            <a:xfrm>
              <a:off x="3751920" y="3222720"/>
              <a:ext cx="4344480" cy="19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raz 11" descr="3653603610_f77684e808_m.jpg"/>
          <p:cNvPicPr/>
          <p:nvPr/>
        </p:nvPicPr>
        <p:blipFill>
          <a:blip r:embed="rId1"/>
          <a:stretch/>
        </p:blipFill>
        <p:spPr>
          <a:xfrm>
            <a:off x="2556000" y="3068640"/>
            <a:ext cx="4752720" cy="358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3640" y="1916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dochody: wpłaty z zysku banku centralnego, dochody jednostek budżetowych (np. opłaty administracyjne), dywidenda z przedsiębiorstw państwowych, dochody kapitałowe, różne transfery (np. wpłaty z budżetu Unii Europejskiej), 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i na ubezpieczenia społeczne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rostokąt 5"/>
          <p:cNvSpPr/>
          <p:nvPr/>
        </p:nvSpPr>
        <p:spPr>
          <a:xfrm>
            <a:off x="0" y="549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6"/>
          <p:cNvSpPr/>
          <p:nvPr/>
        </p:nvSpPr>
        <p:spPr>
          <a:xfrm>
            <a:off x="53964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26828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ą wszelkie wydatki, których dokonują podmioty należące do sektora finansów publicznych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oznaczają całość wydatków ponoszonych przez państwo w celu realizacji funkcji państwa w gospodarce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6"/>
          <p:cNvGrpSpPr/>
          <p:nvPr/>
        </p:nvGrpSpPr>
        <p:grpSpPr>
          <a:xfrm>
            <a:off x="0" y="476280"/>
            <a:ext cx="8450280" cy="6381720"/>
            <a:chOff x="0" y="476280"/>
            <a:chExt cx="8450280" cy="6381720"/>
          </a:xfrm>
        </p:grpSpPr>
        <p:pic>
          <p:nvPicPr>
            <p:cNvPr id="160" name="Obraz 4" descr="wydatki2.jpg"/>
            <p:cNvPicPr/>
            <p:nvPr/>
          </p:nvPicPr>
          <p:blipFill>
            <a:blip r:embed="rId1"/>
            <a:stretch/>
          </p:blipFill>
          <p:spPr>
            <a:xfrm>
              <a:off x="3420000" y="3525480"/>
              <a:ext cx="5030280" cy="33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5"/>
            <p:cNvSpPr/>
            <p:nvPr/>
          </p:nvSpPr>
          <p:spPr>
            <a:xfrm>
              <a:off x="0" y="476280"/>
              <a:ext cx="83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datki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raz 10" descr="1525182668_92bc6c07e4_m.jpg"/>
          <p:cNvPicPr/>
          <p:nvPr/>
        </p:nvPicPr>
        <p:blipFill>
          <a:blip r:embed="rId1"/>
          <a:srcRect l="30167" t="0" r="33612" b="5249"/>
          <a:stretch/>
        </p:blipFill>
        <p:spPr>
          <a:xfrm>
            <a:off x="755640" y="3467160"/>
            <a:ext cx="1728720" cy="3390840"/>
          </a:xfrm>
          <a:prstGeom prst="rect">
            <a:avLst/>
          </a:prstGeom>
          <a:ln w="0">
            <a:noFill/>
          </a:ln>
        </p:spPr>
      </p:pic>
      <p:sp>
        <p:nvSpPr>
          <p:cNvPr id="166" name="Objaśnienie w chmurce 14"/>
          <p:cNvSpPr/>
          <p:nvPr/>
        </p:nvSpPr>
        <p:spPr>
          <a:xfrm>
            <a:off x="3348000" y="1413000"/>
            <a:ext cx="4824360" cy="3384360"/>
          </a:xfrm>
          <a:prstGeom prst="cloudCallout">
            <a:avLst>
              <a:gd name="adj1" fmla="val -73185"/>
              <a:gd name="adj2" fmla="val 2395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95640" y="1916280"/>
            <a:ext cx="432144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płace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towary i usługi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sługę zadłużenia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nsfery do gospodarstw domowych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tacje i subwencje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majątkowe.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8" name="Prostokąt 5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395280" y="1413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dzieli się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04:21Z</dcterms:created>
  <dc:creator>tfigurska</dc:creator>
  <dc:description/>
  <dc:language>en-US</dc:language>
  <cp:lastModifiedBy>Marta</cp:lastModifiedBy>
  <dcterms:modified xsi:type="dcterms:W3CDTF">2013-01-31T15:47:08Z</dcterms:modified>
  <cp:revision>61</cp:revision>
  <dc:subject/>
  <dc:title>3. Gospodarka</dc:title>
</cp:coreProperties>
</file>